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2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4"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F54D-1A86-441C-B5E6-7A3FFB506F7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edom ride was a group about 30 white university students and Aboriginals supporters set out for north-western New South Wa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5 aboriginal peoples were not citizens. They were forced to all live together on small pockets of land on the edge of town. It called reserves and missions. There was no plumbing, no electricity and no amenities. They did not have cafes, cinemas, theatres, hotels, swimming poo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Perkin and Gary Williams were the first aboriginal students to attend Sydney University. They were inspired to the white students protested for the Aboriginals. In Canberra on May 1964, 2000 university students protest in front of the US consulate supporting the Civil Rights Bill which was before congre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5 some aboriginal activists and white university students supporters set out for north-western New South Wales in a bus. They protested in front of the RSL club in Walge and in front of the swimming pool at Maree. Both place had restricted aborigines from en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hites used violence against the freedom riders: they punched, pelted with food, swore at and spat on them. A truck ran their bus off the road. At Morree pool police had to come in to protect them against the protester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1965 a new policy for Aborigines was introduced: integration. They would run their own business, keep their customs, and be equal to white peoples. Aborigines had been forming groups to run their own affairs anyway-</a:t>
            </a:r>
            <a:r>
              <a:rPr b="1" lang="en-AU" sz="1200" spc="-1" strike="noStrike">
                <a:solidFill>
                  <a:srgbClr val="000000"/>
                </a:solidFill>
                <a:latin typeface="Arial"/>
              </a:rPr>
              <a:t>the Aboriginal advancement league, Aboriginal Fellowship </a:t>
            </a:r>
            <a:r>
              <a:rPr b="0" lang="en-AU" sz="1200" spc="-1" strike="noStrike">
                <a:solidFill>
                  <a:srgbClr val="000000"/>
                </a:solidFill>
                <a:latin typeface="Arial"/>
              </a:rPr>
              <a:t>and</a:t>
            </a:r>
            <a:r>
              <a:rPr b="1" lang="en-AU" sz="1200" spc="-1" strike="noStrike">
                <a:solidFill>
                  <a:srgbClr val="000000"/>
                </a:solidFill>
                <a:latin typeface="Arial"/>
              </a:rPr>
              <a:t> the Federal Council for the Advancement of Aborigines and Torres Strait Island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A95C8B-C1C8-4BC4-AAA9-6BBE2BB2FE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C1ACE3-EF3E-4123-AEB3-5F4EDB4EB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E85D1A-7485-43CC-9887-455E533D89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FCD2C4-7143-441B-ADD5-6F4504992F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3F4F6C-BDE7-4168-AC6A-E40577B6C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9A678-A59C-401B-8699-884DCB001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DB29B-9ACD-4B65-9E35-2D65A2098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33785-E55F-4083-9157-4A6D8EEC7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551D4-46B5-4059-BCE3-3A4D8A679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4C402-74F3-4594-A27D-CB2E50BCE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02B58-A7B1-49AA-8725-11990D887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721702-77C4-4F7B-967D-D8513F0A1D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A1AA6-971A-4480-9CD2-AEDA6F2C9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B93F4-94CF-427C-97F9-7B02B568E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6003C-0929-4D4E-B8FD-AA553F95F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F4ECDC-3D09-44D0-983F-B2C0A74F5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8E3CB-39BA-48DC-8180-A40315081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C33112-B09F-45DF-B393-6DCAF55E80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5228F9-EE6C-4AE0-BAA9-A9C55FBC45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DCCA3-A697-412F-9A87-97C8490DE4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770214-2541-4848-B87D-A4A10D567D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19DDB-ECDE-4C13-9991-5105BDF794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B09669-C298-479A-980F-0A2F99312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BBB6DA-9CF2-4785-8BF9-D6B52198E2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F5DC25-FCEF-45BB-B1C1-97FA8DE60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AE1FF-3A79-43BD-9FAF-2F59E7743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1EDE4-0C67-417E-97F8-CE6F9A95FC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4B42CB-3FE7-467B-AA51-8B2E4C29ED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41C5F3-7807-4390-8997-CEE16A56B7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F86183-C751-4487-958A-600FF6CB2C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1837DB-348C-4E50-8ED3-9A5E4336C9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D378F8-76A8-4239-B3B3-8FA0771069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3C994F-63E2-4358-A778-75F63EC6B7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DB9BD8-CF04-4C76-B964-1ECA5CB55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D15B6F-E692-4371-A85F-297BDEF20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C82782-C67C-498E-A9C2-3B728F3B7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D13419-8EBE-41AA-BA87-53B07C6E7B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8215A-B135-4FC6-92A5-43FBE7F11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EAB38-D2B6-4F8A-88B4-465350913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174C0-75E3-402B-B494-275B8C743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3364CA-C5FD-443D-9E43-AD08CA2AD4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3F7D3E-1EDE-4391-801F-9AAC471E3C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E70E37-D334-4476-AC45-D802A9F9AD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EB6F99-BFA1-4AD7-85C2-C96F7BFC2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0E7953-CDE7-447F-93D2-14B093A0B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72AE9F-7DA8-48BB-99DC-A434D031A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CD6F30-F124-4C41-AAD0-2F6CCC7D3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B97141-CB4A-4E6E-B821-CA3C4DA7D16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37FB-0520-49D7-B0FB-EEA0BF7F6A28}"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5BE5-4ACE-4FCF-AD1C-F50393979C6F}" type="slidenum">
              <a:rPr b="0" lang="en-A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1071720" y="304920"/>
            <a:ext cx="7614720" cy="1106280"/>
            <a:chOff x="1071720" y="304920"/>
            <a:chExt cx="7614720" cy="1106280"/>
          </a:xfrm>
        </p:grpSpPr>
        <p:sp>
          <p:nvSpPr>
            <p:cNvPr id="106"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49C0-D761-4C8D-9F57-C6D115781843}"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1658520" y="1600200"/>
            <a:ext cx="6837480" cy="3200400"/>
            <a:chOff x="1658520" y="1600200"/>
            <a:chExt cx="6837480" cy="3200400"/>
          </a:xfrm>
        </p:grpSpPr>
        <p:sp>
          <p:nvSpPr>
            <p:cNvPr id="153"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1"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CB6C-9290-461C-B93A-CCEA3B266FB6}"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2"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eedom ride in 1965</a:t>
            </a:r>
            <a:endParaRPr b="0" lang="en-US" sz="6000" spc="-1" strike="noStrike">
              <a:solidFill>
                <a:srgbClr val="000000"/>
              </a:solidFill>
              <a:latin typeface="Arial"/>
            </a:endParaRPr>
          </a:p>
        </p:txBody>
      </p:sp>
      <p:pic>
        <p:nvPicPr>
          <p:cNvPr id="207" name="" descr=""/>
          <p:cNvPicPr/>
          <p:nvPr/>
        </p:nvPicPr>
        <p:blipFill>
          <a:blip r:embed="rId1"/>
          <a:stretch/>
        </p:blipFill>
        <p:spPr>
          <a:xfrm>
            <a:off x="1476360" y="1700280"/>
            <a:ext cx="612000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932360" y="1197000"/>
            <a:ext cx="3816360" cy="50263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Before 1965 aboriginal people were not citizen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ll live together on small pocket.</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t called reserves and</a:t>
            </a:r>
            <a:r>
              <a:rPr b="0" lang="en-US" sz="2000" spc="-1" strike="noStrike">
                <a:solidFill>
                  <a:srgbClr val="000000"/>
                </a:solidFill>
                <a:latin typeface="Comic Sans MS"/>
              </a:rPr>
              <a:t> </a:t>
            </a:r>
            <a:r>
              <a:rPr b="0" lang="en-US" sz="2800" spc="-1" strike="noStrike">
                <a:solidFill>
                  <a:srgbClr val="000000"/>
                </a:solidFill>
                <a:latin typeface="Comic Sans MS"/>
              </a:rPr>
              <a:t>mission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 electricity, no amenities, don’t have cafes, cinemas,…</a:t>
            </a:r>
            <a:endParaRPr b="0" lang="en-US" sz="2800" spc="-1" strike="noStrike">
              <a:solidFill>
                <a:srgbClr val="000000"/>
              </a:solidFill>
              <a:latin typeface="Arial"/>
            </a:endParaRPr>
          </a:p>
        </p:txBody>
      </p:sp>
      <p:pic>
        <p:nvPicPr>
          <p:cNvPr id="209" name="" descr=""/>
          <p:cNvPicPr/>
          <p:nvPr/>
        </p:nvPicPr>
        <p:blipFill>
          <a:blip r:embed="rId1"/>
          <a:stretch/>
        </p:blipFill>
        <p:spPr>
          <a:xfrm>
            <a:off x="250920" y="1125360"/>
            <a:ext cx="4321080" cy="4608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95280" y="1413000"/>
            <a:ext cx="3024360" cy="4319640"/>
          </a:xfrm>
          <a:prstGeom prst="rect">
            <a:avLst/>
          </a:prstGeom>
          <a:ln w="0">
            <a:noFill/>
          </a:ln>
        </p:spPr>
      </p:pic>
      <p:sp>
        <p:nvSpPr>
          <p:cNvPr id="211" name=""/>
          <p:cNvSpPr/>
          <p:nvPr/>
        </p:nvSpPr>
        <p:spPr>
          <a:xfrm>
            <a:off x="3708360" y="1341360"/>
            <a:ext cx="47512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Charles Perkin and Gary Williams (his friend) were the first aboriginal university student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 Canberra on May 1964, 2000 university students protest.</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y were supporting the Civil Rights B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88000" y="765000"/>
            <a:ext cx="3671640" cy="59360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In 1965, some aboriginal and white students supporter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y went out to the north-western New South Wales in a bu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y protested in front of the RSL club, in front of the swimming pool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 descr=""/>
          <p:cNvPicPr/>
          <p:nvPr/>
        </p:nvPicPr>
        <p:blipFill>
          <a:blip r:embed="rId1"/>
          <a:stretch/>
        </p:blipFill>
        <p:spPr>
          <a:xfrm>
            <a:off x="395280" y="907920"/>
            <a:ext cx="4032360" cy="496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95280" y="620640"/>
            <a:ext cx="4248000" cy="4175280"/>
          </a:xfrm>
          <a:prstGeom prst="rect">
            <a:avLst/>
          </a:prstGeom>
          <a:ln w="0">
            <a:noFill/>
          </a:ln>
        </p:spPr>
      </p:pic>
      <p:pic>
        <p:nvPicPr>
          <p:cNvPr id="215" name="" descr=""/>
          <p:cNvPicPr/>
          <p:nvPr/>
        </p:nvPicPr>
        <p:blipFill>
          <a:blip r:embed="rId2"/>
          <a:stretch/>
        </p:blipFill>
        <p:spPr>
          <a:xfrm>
            <a:off x="395280" y="5013360"/>
            <a:ext cx="4248000" cy="1844640"/>
          </a:xfrm>
          <a:prstGeom prst="rect">
            <a:avLst/>
          </a:prstGeom>
          <a:ln w="0">
            <a:noFill/>
          </a:ln>
        </p:spPr>
      </p:pic>
      <p:sp>
        <p:nvSpPr>
          <p:cNvPr id="216" name=""/>
          <p:cNvSpPr/>
          <p:nvPr/>
        </p:nvSpPr>
        <p:spPr>
          <a:xfrm>
            <a:off x="4932360" y="1341360"/>
            <a:ext cx="38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5003640" y="1341360"/>
            <a:ext cx="3311640" cy="4298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Some white use violence against the freedom ride.</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truck ran their bus off the road.</a:t>
            </a:r>
            <a:endParaRPr b="0" lang="en-US" sz="2800" spc="-1" strike="noStrike">
              <a:solidFill>
                <a:srgbClr val="000000"/>
              </a:solidFill>
              <a:latin typeface="Arial"/>
            </a:endParaRPr>
          </a:p>
          <a:p>
            <a:pPr>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t Morree pool police had to come in to protect them</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50920" y="1052640"/>
            <a:ext cx="4897440" cy="4608360"/>
          </a:xfrm>
          <a:prstGeom prst="rect">
            <a:avLst/>
          </a:prstGeom>
          <a:ln w="0">
            <a:noFill/>
          </a:ln>
        </p:spPr>
      </p:pic>
      <p:sp>
        <p:nvSpPr>
          <p:cNvPr id="219" name=""/>
          <p:cNvSpPr/>
          <p:nvPr/>
        </p:nvSpPr>
        <p:spPr>
          <a:xfrm>
            <a:off x="5435640" y="765000"/>
            <a:ext cx="3313080" cy="52308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In 1965 a new policy for Aborigines introduced.</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y would run their own affairs, keep customs…</a:t>
            </a:r>
            <a:endParaRPr b="0" lang="en-US" sz="2800" spc="-1" strike="noStrike">
              <a:solidFill>
                <a:srgbClr val="000000"/>
              </a:solidFill>
              <a:latin typeface="Arial"/>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borigines had been forming groups to run their own affairs.</a:t>
            </a:r>
            <a:endParaRPr b="0" lang="en-US" sz="2800" spc="-1" strike="noStrike">
              <a:solidFill>
                <a:srgbClr val="000000"/>
              </a:solidFill>
              <a:latin typeface="Arial"/>
            </a:endParaRPr>
          </a:p>
        </p:txBody>
      </p:sp>
      <p:sp>
        <p:nvSpPr>
          <p:cNvPr id="220" name=""/>
          <p:cNvSpPr/>
          <p:nvPr/>
        </p:nvSpPr>
        <p:spPr>
          <a:xfrm>
            <a:off x="5796000" y="6491160"/>
            <a:ext cx="33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cide by DANNI and B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01:48:39Z</dcterms:created>
  <dc:creator>Reservoir District Secondary College</dc:creator>
  <dc:description/>
  <dc:language>en-US</dc:language>
  <cp:lastModifiedBy>DE&amp;T User</cp:lastModifiedBy>
  <dcterms:modified xsi:type="dcterms:W3CDTF">2008-06-05T05:07:51Z</dcterms:modified>
  <cp:revision>4</cp:revision>
  <dc:subject/>
  <dc:title>Freedom ride</dc:title>
</cp:coreProperties>
</file>